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E2E-40F7-40CE-9DD7-72B45675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B07-FF70-4850-B73F-7644397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1C6-8A0A-4247-A21A-9E77003A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1FB-96C2-4A3D-9DDF-4A5694F7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16C-D985-498F-BA02-3574F4F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1A0-A814-4ADB-9B2B-8A0003C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F51-344E-4F74-85C7-2EE8C73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FB3-54EB-4A66-8B0C-498AD829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534-9E96-4C7E-BF45-2AADB6B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699-E26F-4B1D-B976-02AD96F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836-9CE4-41FB-B4E8-1E9D01F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1FC-080F-45F5-A3DC-CB32ECB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48B-6405-4A1E-9044-787666106B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33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160020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ngs made by nature and used by people are call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37720"/>
            <a:ext cx="4800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</a:rPr>
              <a:t>Non-renewable resources take a long time to repl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</a:rPr>
              <a:t>Examples: Fossil fuels such as coal, oil and natural gas and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 flipV="1">
            <a:off x="6858000" y="6624720"/>
            <a:ext cx="190512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00600" y="1600200"/>
            <a:ext cx="38862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Non- 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greenscreen.org/articles_sr/planet_earth/images_natural_resources/oil.jpg"/>
          <p:cNvPicPr/>
          <p:nvPr/>
        </p:nvPicPr>
        <p:blipFill>
          <a:blip r:embed="rId1"/>
          <a:srcRect l="0" t="34145" r="0" b="0"/>
          <a:stretch/>
        </p:blipFill>
        <p:spPr>
          <a:xfrm>
            <a:off x="4800600" y="2743200"/>
            <a:ext cx="205740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greenscreen.org/articles_sr/planet_earth/images_natural_resources/oil.jpg"/>
          <p:cNvPicPr/>
          <p:nvPr/>
        </p:nvPicPr>
        <p:blipFill>
          <a:blip r:embed="rId2"/>
          <a:srcRect l="0" t="0" r="0" b="67805"/>
          <a:stretch/>
        </p:blipFill>
        <p:spPr>
          <a:xfrm>
            <a:off x="6858000" y="4724280"/>
            <a:ext cx="1828800" cy="205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img.alibaba.com/photo/101636275/THERMAL_STEAM_COAL.jpg"/>
          <p:cNvPicPr/>
          <p:nvPr/>
        </p:nvPicPr>
        <p:blipFill>
          <a:blip r:embed="rId3"/>
          <a:stretch/>
        </p:blipFill>
        <p:spPr>
          <a:xfrm>
            <a:off x="6858000" y="2708280"/>
            <a:ext cx="18288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99ff">
              <a:alpha val="8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ectangle 7"/>
          <p:cNvGrpSpPr/>
          <p:nvPr/>
        </p:nvGrpSpPr>
        <p:grpSpPr>
          <a:xfrm>
            <a:off x="-60480" y="1639800"/>
            <a:ext cx="9259920" cy="3005280"/>
            <a:chOff x="-60480" y="1639800"/>
            <a:chExt cx="9259920" cy="3005280"/>
          </a:xfrm>
        </p:grpSpPr>
        <p:pic>
          <p:nvPicPr>
            <p:cNvPr id="101" name="Rectangle 7" descr=""/>
            <p:cNvPicPr/>
            <p:nvPr/>
          </p:nvPicPr>
          <p:blipFill>
            <a:blip r:embed="rId1"/>
            <a:stretch/>
          </p:blipFill>
          <p:spPr>
            <a:xfrm>
              <a:off x="-60480" y="1639800"/>
              <a:ext cx="92599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1676520"/>
              <a:ext cx="91440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sil fuels like coal, oil and natural gas cannot be replaced in a short amount of time. It takes millions of years for them to refor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5" descr="the_burning_of_fossil_fuels_cannot_be_sustained_cc4o"/>
          <p:cNvPicPr/>
          <p:nvPr/>
        </p:nvPicPr>
        <p:blipFill>
          <a:blip r:embed="rId2"/>
          <a:stretch/>
        </p:blipFill>
        <p:spPr>
          <a:xfrm>
            <a:off x="0" y="3652920"/>
            <a:ext cx="4800600" cy="320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g.alibaba.com/photo/101636275/THERMAL_STEAM_COAL.jpg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non-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non-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xhausti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9194d"/>
                </a:solidFill>
                <a:uFillTx/>
                <a:latin typeface="Arial"/>
              </a:rPr>
              <a:t>Inexhaustible resources cannot ever be used u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9194d"/>
                </a:solidFill>
                <a:uFillTx/>
                <a:latin typeface="Arial"/>
              </a:rPr>
              <a:t>Examples: Sunlight, wind, air, wa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http://www.in.gov/oed/images/iStock_000000584982Small.jpg"/>
          <p:cNvPicPr/>
          <p:nvPr/>
        </p:nvPicPr>
        <p:blipFill>
          <a:blip r:embed="rId1"/>
          <a:stretch/>
        </p:blipFill>
        <p:spPr>
          <a:xfrm>
            <a:off x="5486400" y="1384200"/>
            <a:ext cx="3429000" cy="5473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486400" y="2057400"/>
            <a:ext cx="34290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Arial"/>
                <a:ea typeface="Arial"/>
              </a:rPr>
              <a:t>Inexhaust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ff66">
              <a:alpha val="8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exhausti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1676520"/>
            <a:ext cx="9144000" cy="289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People cannot use up all the </a:t>
            </a:r>
            <a:r>
              <a:rPr b="1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solar energy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from the sun or the </a:t>
            </a:r>
            <a:r>
              <a:rPr b="1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air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 that we bre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alaska-in-pictures.com/data/media/13/watery-sunlight_1109.jpg"/>
          <p:cNvPicPr/>
          <p:nvPr/>
        </p:nvPicPr>
        <p:blipFill>
          <a:blip r:embed="rId1"/>
          <a:stretch/>
        </p:blipFill>
        <p:spPr>
          <a:xfrm>
            <a:off x="0" y="36576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impactlab.com/wp-content/uploads/2008/06/wind_farm-82.jpg"/>
          <p:cNvPicPr/>
          <p:nvPr/>
        </p:nvPicPr>
        <p:blipFill>
          <a:blip r:embed="rId2"/>
          <a:stretch/>
        </p:blipFill>
        <p:spPr>
          <a:xfrm>
            <a:off x="2514600" y="367668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www.cirenew.org/renew/images/ocean00590.jpg"/>
          <p:cNvPicPr/>
          <p:nvPr/>
        </p:nvPicPr>
        <p:blipFill>
          <a:blip r:embed="rId3"/>
          <a:stretch/>
        </p:blipFill>
        <p:spPr>
          <a:xfrm>
            <a:off x="7243920" y="5334120"/>
            <a:ext cx="190008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farm3.static.flickr.com/2190/2261662262_a7775f6fb5.jpg?v=0"/>
          <p:cNvPicPr/>
          <p:nvPr/>
        </p:nvPicPr>
        <p:blipFill>
          <a:blip r:embed="rId4"/>
          <a:stretch/>
        </p:blipFill>
        <p:spPr>
          <a:xfrm>
            <a:off x="7238880" y="3657600"/>
            <a:ext cx="1930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nexhausti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inexhausti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y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g441.imageshack.us/img441/3200/r139061476078vo1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63680" y="176040"/>
            <a:ext cx="8064360" cy="23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content.answers.com/main/content/wp/en/6/65/Oil_sands_open_pit_mining.jpg"/>
          <p:cNvPicPr/>
          <p:nvPr/>
        </p:nvPicPr>
        <p:blipFill>
          <a:blip r:embed="rId3"/>
          <a:stretch/>
        </p:blipFill>
        <p:spPr>
          <a:xfrm>
            <a:off x="128520" y="4187880"/>
            <a:ext cx="2595600" cy="360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arizonamemorial.org/images/page-headers/locations/kalaupapa-natural-resources.jpg"/>
          <p:cNvPicPr/>
          <p:nvPr/>
        </p:nvPicPr>
        <p:blipFill>
          <a:blip r:embed="rId4"/>
          <a:stretch/>
        </p:blipFill>
        <p:spPr>
          <a:xfrm>
            <a:off x="3133800" y="4591080"/>
            <a:ext cx="275436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egov.oregon.gov/ODA/NRD/images/feature/red_pond.jpg"/>
          <p:cNvPicPr/>
          <p:nvPr/>
        </p:nvPicPr>
        <p:blipFill>
          <a:blip r:embed="rId5"/>
          <a:stretch/>
        </p:blipFill>
        <p:spPr>
          <a:xfrm>
            <a:off x="6303960" y="4187880"/>
            <a:ext cx="2558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AutoShape 13"/>
          <p:cNvCxnSpPr/>
          <p:nvPr/>
        </p:nvCxnSpPr>
        <p:spPr>
          <a:xfrm flipH="1">
            <a:off x="4494960" y="3733920"/>
            <a:ext cx="2520" cy="14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3"/>
          <p:cNvCxnSpPr/>
          <p:nvPr/>
        </p:nvCxnSpPr>
        <p:spPr>
          <a:xfrm flipH="1">
            <a:off x="1293120" y="3735360"/>
            <a:ext cx="39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" name="Group 2"/>
          <p:cNvGrpSpPr/>
          <p:nvPr/>
        </p:nvGrpSpPr>
        <p:grpSpPr>
          <a:xfrm>
            <a:off x="152280" y="914400"/>
            <a:ext cx="8686440" cy="5229360"/>
            <a:chOff x="152280" y="914400"/>
            <a:chExt cx="8686440" cy="5229360"/>
          </a:xfrm>
        </p:grpSpPr>
        <p:sp>
          <p:nvSpPr>
            <p:cNvPr id="126" name="Rectangle 3"/>
            <p:cNvSpPr/>
            <p:nvPr/>
          </p:nvSpPr>
          <p:spPr>
            <a:xfrm>
              <a:off x="2929680" y="914400"/>
              <a:ext cx="3326760" cy="533160"/>
            </a:xfrm>
            <a:prstGeom prst="rect">
              <a:avLst/>
            </a:prstGeom>
            <a:solidFill>
              <a:srgbClr val="92d05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NATURAL RESOUR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3243600" y="3179880"/>
              <a:ext cx="2582280" cy="516600"/>
            </a:xfrm>
            <a:prstGeom prst="rect">
              <a:avLst/>
            </a:prstGeom>
            <a:solidFill>
              <a:srgbClr val="00b0f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n-renewa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04560" y="3179880"/>
              <a:ext cx="2284200" cy="51660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newa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6328080" y="5216040"/>
              <a:ext cx="2510640" cy="927720"/>
            </a:xfrm>
            <a:prstGeom prst="rect">
              <a:avLst/>
            </a:prstGeom>
            <a:solidFill>
              <a:srgbClr val="cc66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not be used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315240" y="5216040"/>
              <a:ext cx="2501640" cy="927720"/>
            </a:xfrm>
            <a:prstGeom prst="rect">
              <a:avLst/>
            </a:prstGeom>
            <a:solidFill>
              <a:srgbClr val="00b0f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not be replaced in a short amount of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152280" y="5216040"/>
              <a:ext cx="2537640" cy="92772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 be replaced in a short amount of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"/>
            <p:cNvSpPr/>
            <p:nvPr/>
          </p:nvSpPr>
          <p:spPr>
            <a:xfrm>
              <a:off x="6202800" y="3170160"/>
              <a:ext cx="2582280" cy="526320"/>
            </a:xfrm>
            <a:prstGeom prst="rect">
              <a:avLst/>
            </a:prstGeom>
            <a:solidFill>
              <a:srgbClr val="cc66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exhausti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AutoShape 10"/>
            <p:cNvCxnSpPr/>
            <p:nvPr/>
          </p:nvCxnSpPr>
          <p:spPr>
            <a:xfrm flipH="1">
              <a:off x="1294920" y="1258200"/>
              <a:ext cx="1635120" cy="1942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11"/>
            <p:cNvCxnSpPr/>
            <p:nvPr/>
          </p:nvCxnSpPr>
          <p:spPr>
            <a:xfrm>
              <a:off x="6256080" y="1162800"/>
              <a:ext cx="1354680" cy="200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12"/>
            <p:cNvCxnSpPr/>
            <p:nvPr/>
          </p:nvCxnSpPr>
          <p:spPr>
            <a:xfrm flipH="1">
              <a:off x="4480920" y="1446480"/>
              <a:ext cx="14760" cy="1723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13"/>
            <p:cNvCxnSpPr/>
            <p:nvPr/>
          </p:nvCxnSpPr>
          <p:spPr>
            <a:xfrm>
              <a:off x="7610400" y="3819960"/>
              <a:ext cx="1080" cy="139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Rectangle 14"/>
            <p:cNvSpPr/>
            <p:nvPr/>
          </p:nvSpPr>
          <p:spPr>
            <a:xfrm>
              <a:off x="33084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338688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58836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4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Slip – On a half sheet of paper, write your name and the numbers 1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2" descr=""/>
          <p:cNvPicPr/>
          <p:nvPr/>
        </p:nvPicPr>
        <p:blipFill>
          <a:blip r:embed="rId1"/>
          <a:stretch/>
        </p:blipFill>
        <p:spPr>
          <a:xfrm>
            <a:off x="-6480" y="1901880"/>
            <a:ext cx="91569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DAY’S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By the end of today’s les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should be able to classify natural resources as being renewable, non-renewable or inexhaus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Arial"/>
              </a:rPr>
              <a:t>2.1 Resources: Class Notes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bgr.bund.de/EN/Themen/Klimaentwicklung/Bilder/klimaentwicklung__1__g__en,property=default.jpg"/>
          <p:cNvPicPr/>
          <p:nvPr/>
        </p:nvPicPr>
        <p:blipFill>
          <a:blip r:embed="rId2"/>
          <a:stretch/>
        </p:blipFill>
        <p:spPr>
          <a:xfrm>
            <a:off x="1905120" y="3760920"/>
            <a:ext cx="4128840" cy="309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isconsin.sierraclub.org/gwg/kids/images/AwarenessNaturalResourcesDefenseCouncilbear.bmp"/>
          <p:cNvPicPr/>
          <p:nvPr/>
        </p:nvPicPr>
        <p:blipFill>
          <a:blip r:embed="rId3"/>
          <a:stretch/>
        </p:blipFill>
        <p:spPr>
          <a:xfrm>
            <a:off x="6019920" y="44956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depts.ttu.edu/CASNR/Water/water1.jpg"/>
          <p:cNvPicPr/>
          <p:nvPr/>
        </p:nvPicPr>
        <p:blipFill>
          <a:blip r:embed="rId4"/>
          <a:stretch/>
        </p:blipFill>
        <p:spPr>
          <a:xfrm>
            <a:off x="6002280" y="2327400"/>
            <a:ext cx="3141720" cy="224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Benjamin Glover\Local Settings\Temporary Internet Files\Content.IE5\EAWGB4M0\MCj04298150000[1].wmf"/>
          <p:cNvPicPr/>
          <p:nvPr/>
        </p:nvPicPr>
        <p:blipFill>
          <a:blip r:embed="rId5"/>
          <a:stretch/>
        </p:blipFill>
        <p:spPr>
          <a:xfrm>
            <a:off x="7238880" y="1028880"/>
            <a:ext cx="1905120" cy="201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0" y="129528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  <a:ea typeface="Arial"/>
              </a:rPr>
              <a:t>A natural resource is something made by nature that people need or use</a:t>
            </a:r>
            <a:r>
              <a:rPr b="1" lang="en-US" sz="4000" spc="-1" strike="noStrike">
                <a:solidFill>
                  <a:srgbClr val="19194d"/>
                </a:solidFill>
                <a:latin typeface="Arial"/>
                <a:ea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natural resou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3"/>
          <p:cNvSpPr/>
          <p:nvPr/>
        </p:nvSpPr>
        <p:spPr>
          <a:xfrm>
            <a:off x="0" y="1143000"/>
            <a:ext cx="9144000" cy="6001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 flipV="1">
            <a:off x="5334120" y="6735600"/>
            <a:ext cx="190476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429000" y="2946240"/>
            <a:ext cx="373392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Non- 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0" y="2946240"/>
            <a:ext cx="34290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-55440" y="804960"/>
            <a:ext cx="9254880" cy="170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greenscreen.org/articles_sr/planet_earth/images_natural_resources/oil.jpg"/>
          <p:cNvPicPr/>
          <p:nvPr/>
        </p:nvPicPr>
        <p:blipFill>
          <a:blip r:embed="rId2"/>
          <a:srcRect l="0" t="34145" r="0" b="0"/>
          <a:stretch/>
        </p:blipFill>
        <p:spPr>
          <a:xfrm>
            <a:off x="3429000" y="42670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reenscreen.org/articles_sr/planet_earth/images_natural_resources/oil.jpg"/>
          <p:cNvPicPr/>
          <p:nvPr/>
        </p:nvPicPr>
        <p:blipFill>
          <a:blip r:embed="rId3"/>
          <a:srcRect l="0" t="0" r="0" b="67805"/>
          <a:stretch/>
        </p:blipFill>
        <p:spPr>
          <a:xfrm>
            <a:off x="5334120" y="5514840"/>
            <a:ext cx="190476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in.gov/oed/images/iStock_000000584982Small.jpg"/>
          <p:cNvPicPr/>
          <p:nvPr/>
        </p:nvPicPr>
        <p:blipFill>
          <a:blip r:embed="rId4"/>
          <a:stretch/>
        </p:blipFill>
        <p:spPr>
          <a:xfrm>
            <a:off x="7162920" y="43434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7162920" y="2944800"/>
            <a:ext cx="19810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Arial"/>
                <a:ea typeface="Arial"/>
              </a:rPr>
              <a:t>Inexhaust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7162920" y="2970360"/>
            <a:ext cx="1440" cy="38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7"/>
          <p:cNvSpPr/>
          <p:nvPr/>
        </p:nvSpPr>
        <p:spPr>
          <a:xfrm flipH="1" flipV="1">
            <a:off x="0" y="2971800"/>
            <a:ext cx="9144000" cy="14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1"/>
          <p:cNvSpPr/>
          <p:nvPr/>
        </p:nvSpPr>
        <p:spPr>
          <a:xfrm flipH="1" flipV="1">
            <a:off x="0" y="6856560"/>
            <a:ext cx="9144000" cy="14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img.alibaba.com/photo/101636275/THERMAL_STEAM_COAL.jpg"/>
          <p:cNvPicPr/>
          <p:nvPr/>
        </p:nvPicPr>
        <p:blipFill>
          <a:blip r:embed="rId5"/>
          <a:stretch/>
        </p:blipFill>
        <p:spPr>
          <a:xfrm>
            <a:off x="5334120" y="4267080"/>
            <a:ext cx="1828800" cy="12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assets.zoomza.com/images/thumbs/categories/myspace_layouts/Animals.jpg"/>
          <p:cNvPicPr/>
          <p:nvPr/>
        </p:nvPicPr>
        <p:blipFill>
          <a:blip r:embed="rId6"/>
          <a:stretch/>
        </p:blipFill>
        <p:spPr>
          <a:xfrm>
            <a:off x="0" y="557208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http://z.about.com/d/landscaping/1/0/l/C/poison_sumac_plants.jpg"/>
          <p:cNvPicPr/>
          <p:nvPr/>
        </p:nvPicPr>
        <p:blipFill>
          <a:blip r:embed="rId7"/>
          <a:stretch/>
        </p:blipFill>
        <p:spPr>
          <a:xfrm>
            <a:off x="1752480" y="5581800"/>
            <a:ext cx="167652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7"/>
          <p:cNvSpPr/>
          <p:nvPr/>
        </p:nvSpPr>
        <p:spPr>
          <a:xfrm>
            <a:off x="0" y="4267080"/>
            <a:ext cx="990720" cy="1295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990720" y="4267080"/>
            <a:ext cx="2438280" cy="1295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0"/>
          <p:cNvSpPr/>
          <p:nvPr/>
        </p:nvSpPr>
        <p:spPr>
          <a:xfrm flipH="1">
            <a:off x="3427560" y="2971800"/>
            <a:ext cx="1440" cy="38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http://www.nitrate.com/potting_soil.jpg"/>
          <p:cNvPicPr/>
          <p:nvPr/>
        </p:nvPicPr>
        <p:blipFill>
          <a:blip r:embed="rId8"/>
          <a:stretch/>
        </p:blipFill>
        <p:spPr>
          <a:xfrm>
            <a:off x="907920" y="395604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962600" cy="5462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5105520" y="2438280"/>
            <a:ext cx="34290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http://assets.zoomza.com/images/thumbs/categories/myspace_layouts/Animals.jpg"/>
          <p:cNvPicPr/>
          <p:nvPr/>
        </p:nvPicPr>
        <p:blipFill>
          <a:blip r:embed="rId2"/>
          <a:stretch/>
        </p:blipFill>
        <p:spPr>
          <a:xfrm>
            <a:off x="5105520" y="506412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z.about.com/d/landscaping/1/0/l/C/poison_sumac_plants.jpg"/>
          <p:cNvPicPr/>
          <p:nvPr/>
        </p:nvPicPr>
        <p:blipFill>
          <a:blip r:embed="rId3"/>
          <a:stretch/>
        </p:blipFill>
        <p:spPr>
          <a:xfrm>
            <a:off x="6858000" y="5073480"/>
            <a:ext cx="1676520" cy="127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www.nitrate.com/potting_soil.jpg"/>
          <p:cNvPicPr/>
          <p:nvPr/>
        </p:nvPicPr>
        <p:blipFill>
          <a:blip r:embed="rId4"/>
          <a:stretch/>
        </p:blipFill>
        <p:spPr>
          <a:xfrm>
            <a:off x="6016680" y="3449520"/>
            <a:ext cx="15303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www.jasonthomasdesign.com/web_portfolio/pages/going_green/site/living/images/soil.JPG"/>
          <p:cNvPicPr/>
          <p:nvPr/>
        </p:nvPicPr>
        <p:blipFill>
          <a:blip r:embed="rId1"/>
          <a:stretch/>
        </p:blipFill>
        <p:spPr>
          <a:xfrm>
            <a:off x="0" y="4554360"/>
            <a:ext cx="297180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www.givemetrees.org/images/wicked-trees.jpg"/>
          <p:cNvPicPr/>
          <p:nvPr/>
        </p:nvPicPr>
        <p:blipFill>
          <a:blip r:embed="rId2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animalstoo.net/wp/Animals-photo.jpg"/>
          <p:cNvPicPr/>
          <p:nvPr/>
        </p:nvPicPr>
        <p:blipFill>
          <a:blip r:embed="rId3"/>
          <a:stretch/>
        </p:blipFill>
        <p:spPr>
          <a:xfrm>
            <a:off x="2971800" y="4514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0" y="1676520"/>
            <a:ext cx="9144000" cy="289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ts are renewable resources because when old plants d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 plants quickly grow in their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imals give birth to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il is produce relatively quickly by weathering of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53:47Z</dcterms:created>
  <dc:creator>Babak Mostaghimi</dc:creator>
  <dc:description/>
  <dc:language>en-US</dc:language>
  <cp:lastModifiedBy>Caroline Roth</cp:lastModifiedBy>
  <cp:lastPrinted>2010-04-12T03:21:18Z</cp:lastPrinted>
  <dcterms:modified xsi:type="dcterms:W3CDTF">2010-09-07T21:23:30Z</dcterms:modified>
  <cp:revision>107</cp:revision>
  <dc:subject/>
  <dc:title>Topic: Pollution, Fossil Fuels, and Renewable Resources</dc:title>
</cp:coreProperties>
</file>